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F25-FCAF-4EF5-A8C8-F27F28D2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6B4-23AB-4B0F-8DF5-6D60AA0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11B-DB8A-4319-8E02-09855DB8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08C-C9B3-48E0-804D-55CC790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37D-DC66-48AF-ADF1-08428B9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8FE-1291-47C7-B00D-AC91A8B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674-6D29-40ED-96AA-6B30E04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EE9-1EAD-47E9-9BB6-03BBFF6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E24-B876-4B77-B90D-47E74DA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16A-016F-4A9B-B4DE-681821C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BAD-4B2A-42F5-8D71-0A6BC67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D5A-33A4-43EA-B98F-3B583B1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D05-0CD1-420E-91D0-EF001826E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op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281694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6207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E03246_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91952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74320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G00525_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60020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D07306_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171936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06428_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25108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81952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H00280_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656080" cy="21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39Z</dcterms:modified>
  <cp:revision>13</cp:revision>
  <dc:subject/>
  <dc:title>-ill Word Family</dc:title>
</cp:coreProperties>
</file>